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2809-AE1A-41D6-A3D5-C2769010BD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56B4-F1DA-4193-8281-A3E45058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B45E-BED7-4DA7-8D92-EA541D37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85DA-164F-45DE-9FE7-A43D784163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8731F-259B-43F3-BB8D-CE878E51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A54FF-6177-4B57-947F-BA476311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3F3ED-969F-4555-8B46-7F842AAA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1309-CED9-46E3-8993-466C5429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0D3B-8F8D-4614-9692-273C357A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8EDE-2D5D-4B1F-869A-3AA6788D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537D-2728-4258-B163-EA3BD5BD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9E6E-A938-4B40-9AF8-817D63B3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267080" y="6172200"/>
            <a:ext cx="567000" cy="57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05720" y="632412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B2A3-584C-45B9-B42F-CB5B964F801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228240" y="6325920"/>
            <a:ext cx="213372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– EEE3017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. Verrinder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495680" y="6095880"/>
            <a:ext cx="567000" cy="574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9080" y="696600"/>
            <a:ext cx="7808760" cy="29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228240" y="6325920"/>
            <a:ext cx="213372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– EEE3017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. Verrinder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I2C.sv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Opencollector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Inter Integrated Circuit Bu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protocol was developed by Philips and is a registered trad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sometimes referred to as a “2 wire interfa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ypically used to connect low speed peripherals to embedded systems, motherboard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F9B1-7779-4D09-B979-F26BD9CEDC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GT16’s 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Modul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T16 has a dedicated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unit sends and receive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the master or sl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speed is 100k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contro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97480" y="2592360"/>
            <a:ext cx="2540160" cy="25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7721-C054-413D-BF07-2F41F3C8A6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GT16’s 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Modul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70320" y="1600200"/>
            <a:ext cx="42033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1AEB-B010-4FA3-9AD7-31BD63A428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GT16’s 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Modul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71680" y="1600200"/>
            <a:ext cx="620064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533520" y="1981080"/>
            <a:ext cx="3809880" cy="1752840"/>
            <a:chOff x="533520" y="1981080"/>
            <a:chExt cx="3809880" cy="1752840"/>
          </a:xfrm>
        </p:grpSpPr>
        <p:grpSp>
          <p:nvGrpSpPr>
            <p:cNvPr id="109" name=""/>
            <p:cNvGrpSpPr/>
            <p:nvPr/>
          </p:nvGrpSpPr>
          <p:grpSpPr>
            <a:xfrm>
              <a:off x="990720" y="2209680"/>
              <a:ext cx="3352680" cy="1524240"/>
              <a:chOff x="990720" y="2209680"/>
              <a:chExt cx="3352680" cy="1524240"/>
            </a:xfrm>
          </p:grpSpPr>
          <p:sp>
            <p:nvSpPr>
              <p:cNvPr id="110" name=""/>
              <p:cNvSpPr/>
              <p:nvPr/>
            </p:nvSpPr>
            <p:spPr>
              <a:xfrm>
                <a:off x="4114800" y="3429000"/>
                <a:ext cx="228600" cy="304920"/>
              </a:xfrm>
              <a:prstGeom prst="rect">
                <a:avLst/>
              </a:pr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990720" y="2209680"/>
                <a:ext cx="3124080" cy="137160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533520" y="1981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9AD4-F441-4E16-A663-9CADDF6F5C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Connection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only uses two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A – Seri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L – Serial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 capacitance limits the speed of 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imits the speed of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devices to below 400k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167440" cy="14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AE79-C235-4765-A394-664E0915D2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Multiple 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Connection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tocol allows many slaves to be connected to one master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device has a 7-bit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ddress is often set by tying pins on the actual device HIGH or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ther address values are built into the device, based on what type of device 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A sample schematic with one master (a microcontroller) and three slave nodes (an ADC, a DAC, and another microcontroller) with pull-up resistors R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523880"/>
            <a:ext cx="5867640" cy="20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E3308-E606-4A9B-80A4-3DE8F1B432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Data Transfer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SPI, the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master supplies the clock on the SC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DA line can only change when the SCL line is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SCL line is LOW the next bit of data is clocked onto the SDA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done for each bit in turn starting with the M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7C29-D617-407B-9C75-2EA57A270F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Start and Stop bit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ignal the start of data transmission the SDA line changes from HIGH to LOW while the SCL line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known as the start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dicate the end of data transmission the SDA line brought from LOW to HIGH while the SCL line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known as the stop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rt from the Start and Stop condition, the SDA line must never change state while SCL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0D59-8D96-4BD7-AA49-0211E01C69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Data Acknowledgemen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is more complex than S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ter device must be able to check whether a device is present and respo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 a byte of data has been transmitted , the receiving device pulls the SDA line LOW for one bi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known as the acknowledge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st can now check if the slave received its data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BD00A-0B2E-4CA5-A86A-1AD3DB844D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Timing Diagram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03400" y="1600200"/>
            <a:ext cx="51372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598A-BB75-42D0-838F-BE37E0F199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Physical Connection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devices have either open collector or open drain outputs on their SDA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ine is pulled up by an external res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that devices can not damage each other by asserting different logic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A simplified schematic of the externalized (open) collector of an integrated circuit (IC)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B2CC-9097-4B0E-96C2-2273653C92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Device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devi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Cxx EEPROM c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24 indicates that is an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device and the xx represents the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22CE1-F65A-4CA7-A0D9-FF5C066B02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09:44:31Z</dcterms:created>
  <dc:creator>Robyn Verrinder</dc:creator>
  <dc:description/>
  <dc:language>en-US</dc:language>
  <cp:lastModifiedBy>Robyn Verrinder</cp:lastModifiedBy>
  <dcterms:modified xsi:type="dcterms:W3CDTF">2008-05-07T12:15:14Z</dcterms:modified>
  <cp:revision>16</cp:revision>
  <dc:subject/>
  <dc:title>Inter Integrated Circuit Bus</dc:title>
</cp:coreProperties>
</file>